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742-F53E-46CC-BD6F-4A763C9E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D6E-3076-4B7A-8014-F451D9EE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C3A-83AA-4FA8-A221-3336DC14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BCA-E313-4674-87AD-187AF626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7C44A-1C27-4B2D-9C6D-C9A4DAC7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4A298-EB8B-42D9-A9CC-8DEC17E5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0CFE3-E36B-414E-9E22-088354C5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E309A-7746-40AB-81F7-0212C980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083B7-F52D-469E-94BB-465127C5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5CCE3-C794-4D52-AEBA-25319339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80898-CB67-4CC0-8A23-677A39B3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7D5-2DF2-4C11-B02A-B8CB50F3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22958-9A10-459D-AD10-A14B371C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2AAD9-473C-4008-B0A2-F2DE07BF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DA329-899C-43E6-9D39-3EF656E7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D8B04-8208-49CD-9DC4-ACA90960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0B004-1231-465C-93AC-AA0AA5A1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C553A-79A4-4D92-8A09-D7020DDF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AE18F-9053-4D45-9C7E-9B59696F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CFC44-BFD1-4609-94F1-A771C5B4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6F2C-5007-432D-B09D-9971580F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19C1-2EE4-4183-B18F-FBDAFED6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1E8-B724-4404-B079-D46BEB87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FA0D-691C-4378-BDB9-4AF8BD0C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752A-6A5D-4023-90FA-DCA9DEF2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1450-B4B3-495B-81A6-13BA6F4E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94CB-58CA-4068-96A9-5FC5934F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3C45E-381D-419A-9C24-F64E204E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5AE11-FF09-485F-9D1F-E5BA3250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DEE3-A314-4049-9AD6-9053FAED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2996FC-D25B-40D3-98A0-F4E6E0F6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E6D00-6216-41BE-A04D-CEC33D06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5425CF-F678-4739-AC9D-E62F44EC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AAA-8F0B-4D04-9AE9-0CBBC332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B771ED-1DB8-4E6D-9F65-E534E028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6AB01-53E6-4F20-ABB2-D562B58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550FBA-98AF-4B8E-B00E-70C1BBEE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5A8D4-84DD-4364-91F6-8AC2C5AA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39FF4-A008-4506-8137-2D6DD792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9CC56B-82CD-4230-9D24-040DEF8D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14B5AB-0BD0-401F-8CF9-C31F56E8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CE321-A328-4C46-9377-97FDF6A2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3BDCED-82E3-4709-84D8-399600A4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23931-B321-4C79-846F-1293CBA8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C07-0C2E-47DC-9B71-176F51CB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B5EB8-81D8-4854-A7ED-29D2E284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58CF1-9B8B-4B64-9697-D8EF34BC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0705C-82BD-4B99-AB19-1B489349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14811-3291-4011-9F77-EFB0041E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15EC8-B3B3-4620-9CAA-DE3D937B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8A39DA-DB51-4AB2-A549-760A0D28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325CA-AA9F-4977-957A-B5EDF6BD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A0AF4-7977-4F70-BF88-B73F0371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0D754-4B38-4997-BDDF-9D75F991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85385-756C-4434-80A6-2296A05B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D11-973C-4F77-BB6A-318B7E68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F0638-5E3B-44A9-BD52-D8901929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0C142-F035-493F-B654-25B34C74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9E430-C5B9-476A-9358-E81CC04C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22816-AD7D-4117-87CC-7A8B73A7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DD376-977D-42D3-898E-96EAB755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F21AE-1C2A-4297-960A-46DB0907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9849A-C761-402F-87A0-C011A062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6D818-2441-40D5-A8BB-3CCC33F4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89D6D-E426-4CC1-AD0F-E7A42160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9CCB9-3617-465E-8469-4831B619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7FD-40C5-4C90-8BC9-0C3CE36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EF2BB-4DF3-455E-9ECA-9501ED28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F5A42-DDC1-4FFF-AE8D-C43A84B6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1934A-D51B-4D63-93CB-BA3F790C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517E0-F66D-40B5-AABE-4ECA108E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16520-CF7D-4C06-AA8F-D7240E01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8FEE8-A0F8-4A58-AF89-07480BB5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21198-6F55-4FB0-935A-DF09E146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41558-1901-4903-A4EC-1498B936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028D0-4DD3-48D0-B2ED-A11C9E8F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2B4D8-1A1F-4E82-A4CD-6965DFA4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1BA-8FE3-49F2-8790-C8F61F81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8EECA-FED5-4BFA-AFEF-F9DBCCFE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AA200-DD2B-4C09-A5B8-40083142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88568-430C-4527-920F-89F26D6B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0700E-04B8-4A41-AFAF-076573EE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7445D-A3C6-4364-A138-6946BBCD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E51-C98B-4647-8CCE-C9BD9F04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E9D7-5F59-4449-94CF-E16C7325579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EAAC-03B2-4EFD-984D-1B1DE090F85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06FC-4E8C-4968-A5E2-2D829571350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7148-4FED-4A88-9488-D443DAD1B6F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97CA-1646-4FF3-9DFA-D13A735B651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968C-CACA-4074-8027-738D6B7AE6D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0E8E-2776-485A-8606-B78A6963FBD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dependent.co.uk/news/world/europe/france-and-germany-to-blame-for-greece-crisis-7218923.html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y Noah Taylo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Rectangle 2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1528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 wrote this presentat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ebsit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7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independent.co.uk/news/world/europe/france-and-germany-to-blame-for-greece-crisis-7218923.htm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7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ttp://www.guardian.co.uk/business/economics-blog/2012/feb/10/european-debt-crisis-germany-against-greec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7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ttp://www.telegraph.co.uk/finance/financialcrisis/8751180/Germany-pushes-Greece-to-the-brink-in-dangerous-brinkmanship.htm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hoto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7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ttp://www.skyscrapercity.com/showthread.php?t=222007&amp;page=4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7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ttp://blogs.telegraph.co.uk/finance/files/2011/09/euro_1805998c.jpg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7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15" name="Rectangle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ext Placeholder 8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40831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reece is applying for a second bailou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proposed bailout is to b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€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130 bill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Greek bankruptcy originated due to excessive government spendi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reece has announced new budget cuts to make it more attractive as a candidate for financial ai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Rectang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e of the highest per capita arms Greece spent a excessive portion of their  budget on submarines, tanks, and combat aircraf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was before the major recession hit Greece in 2009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9" name="Content Placeholder 5" descr="sub img.jpg"/>
          <p:cNvPicPr/>
          <p:nvPr/>
        </p:nvPicPr>
        <p:blipFill>
          <a:blip r:embed="rId3"/>
          <a:srcRect l="0" t="-36479" r="0" b="-36479"/>
          <a:stretch/>
        </p:blipFill>
        <p:spPr>
          <a:xfrm>
            <a:off x="4648320" y="114300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ermany is reluctant to give aid to Greec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has already given out bailout money to Greece as well as Spain, Ireland, and Italy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ermany wants to maintain political strength and sovereignty while keeping the Euro strong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2" name="Picture 5" descr="German-Chancellor-Angela--007"/>
          <p:cNvPicPr/>
          <p:nvPr/>
        </p:nvPicPr>
        <p:blipFill>
          <a:blip r:embed="rId3"/>
          <a:stretch/>
        </p:blipFill>
        <p:spPr>
          <a:xfrm>
            <a:off x="4419720" y="2133720"/>
            <a:ext cx="44956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 Greece stays in the EU it will keep bringing down the value of the Eur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cause of Greece’s previously bad reputation Germany is hesitant to le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y, as all other countries do, does not want to lend money to another country that might default on the loa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would put Germany into deb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bt is bad for the government as well as the econom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Rectang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Potential Consequence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f Germany stays resistant to the Greek bailout, Greece may choose to leave the EU thus adopting its own currency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his would be a peaceful exit if it was by Greece’s doing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herefore, Germany could say it tried to keep the currency strong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Text Placeholder 8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40384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Cut taxes in Germany, by cutting taxes in Germany, Germans will spend mor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Some of this spending will be on Greek imports, stimulating the Greek econom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ncentivize spending in the EU rather than investment in bon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he EU is in a recession and more spending would help bring it out of i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Rectang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2"/>
          <a:stretch/>
        </p:blipFill>
        <p:spPr>
          <a:xfrm>
            <a:off x="493560" y="152280"/>
            <a:ext cx="8155080" cy="12193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id Greece spend its money o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Military equipmen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live oi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Feta Chees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y is loaning money to Greece bad for German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t will put Germany into deb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Greeks will go on vacation with i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Germany will lose its trade agreement with Japan by doing s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2"/>
          <a:stretch/>
        </p:blipFill>
        <p:spPr>
          <a:xfrm>
            <a:off x="493560" y="152280"/>
            <a:ext cx="8155080" cy="12193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3:02:57Z</dcterms:created>
  <dc:creator>SCSadmin</dc:creator>
  <dc:description/>
  <dc:language>en-US</dc:language>
  <cp:lastModifiedBy>SCSadmin</cp:lastModifiedBy>
  <dcterms:modified xsi:type="dcterms:W3CDTF">2012-03-29T13:00:45Z</dcterms:modified>
  <cp:revision>6</cp:revision>
  <dc:subject/>
  <dc:title>Economic Issues: the Eurozone; Germany and the Greek Bankruptcy</dc:title>
</cp:coreProperties>
</file>